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camera.wav" ContentType="audio/x-wav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1.gif" ContentType="image/gif"/>
  <Override PartName="/ppt/media/image7.png" ContentType="image/png"/>
  <Override PartName="/ppt/media/image8.gif" ContentType="image/gif"/>
  <Override PartName="/ppt/media/image9.png" ContentType="image/png"/>
  <Override PartName="/ppt/media/applaus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85A-3825-4FA0-BB62-1893D4E6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8A1-D0FD-487E-B12F-3B3AB569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DF1-10A0-4724-810D-7D3092BA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470E-49C7-49F1-B850-EF3EB937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4EB-8810-4F99-9EA4-A78692AE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113-C2E6-412C-9FBF-D461ABDE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A86-08B5-406F-8D6B-F99CD366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F4B-44BD-46B9-BEC6-CA813D35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255-4F85-4A61-AD64-72309BAB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DA4-47BF-4E56-AD23-FB37F6F2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089-C89D-44E3-BA92-76FAE9AE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30A-C753-4177-9F6B-4ECEA571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F66E-FCA7-47D6-A5CC-8FB0721697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2514600" cy="3504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781680" y="1523880"/>
            <a:ext cx="2362320" cy="3505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755640" y="2116080"/>
            <a:ext cx="7561440" cy="17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各位家长晚上好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627440" y="607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7207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733920" y="472428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029200" y="4724280"/>
            <a:ext cx="2044800" cy="2438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543800" y="3733920"/>
            <a:ext cx="2057400" cy="3124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62120" y="4343400"/>
            <a:ext cx="190476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248520" y="5181480"/>
            <a:ext cx="2044440" cy="1676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95280" y="5257800"/>
            <a:ext cx="20448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514600" y="4797360"/>
            <a:ext cx="2044800" cy="2210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819520" cy="1714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162160" y="2362320"/>
            <a:ext cx="520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各科班级优秀学生名单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352680" y="30492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语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1268280"/>
            <a:ext cx="82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白炳波 吴雁斌  陈  鸿黄  杰 曹隆威 卢成浣 白晓杰 王  虹周彬彬 陈咨沙 林  恒 王晓婷 徐文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  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郑德宋 陈  骏 董学权 马思思 徐登超 陈  萱 黄兆宇 陈士洲 梁亦涨 周方潮徐斌斌 白炳堆 陈  恒 陈海琳 白千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352680" y="30492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语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1268280"/>
            <a:ext cx="792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白炳波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139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吴雁斌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133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陈  鸿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134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黄  杰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13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卢成浣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133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白晓杰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13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王  虹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131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陈咨沙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131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王晓婷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13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76720" y="189000"/>
            <a:ext cx="23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数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125360"/>
            <a:ext cx="82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白炳波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46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吴雁斌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50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陈  鸿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黄  杰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曹隆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卢成浣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4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白晓杰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王  虹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46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周彬彬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陈咨沙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林  恒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王晓婷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郑  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徐文文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郑德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48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陈  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4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董学权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马思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46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徐登超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47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陈  萱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黄兆宇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46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梁亦涨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49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周方潮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白炳堆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5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陈海琳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45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张友明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44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陈  杰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4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鲁友明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505320" y="26208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英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1268280"/>
            <a:ext cx="8281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白炳波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8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吴雁斌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5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陈  鸿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黄  杰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曹隆威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0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白晓杰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1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王  虹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3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周彬彬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1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王晓婷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5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马思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4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徐登超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1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陈  萱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0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陈  恒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0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董  强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32000" y="6922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科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2025720"/>
            <a:ext cx="770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白炳波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97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吴雁斌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9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陈  鸿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91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曹隆威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88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卢成浣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90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林  恒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83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郑德宋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83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陈  骏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36600" y="3049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社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268280"/>
            <a:ext cx="849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白炳波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90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吴雁斌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96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陈  鸿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黄  杰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00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曹隆威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97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卢成浣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93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王  虹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92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陈咨沙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92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王晓婷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90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陈  骏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94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周方潮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92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徐斌斌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9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47640" y="76500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期中考试存在的问题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198900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学科不均衡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79640" y="1484280"/>
            <a:ext cx="53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  <a:ea typeface="隶书"/>
              </a:rPr>
              <a:t>中考分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8900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2006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年平阳县各类高中分数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052640"/>
            <a:ext cx="838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平阳一中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73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浙鳌高中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719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敖江一中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708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新鳌高中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平阳三中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697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第十一中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68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平阳二中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67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萧振高中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669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育秀高中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636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金凤高中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615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山门高中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580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508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语文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13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数学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145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英语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11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科学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19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社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95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合计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67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育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总分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7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7480" y="1314360"/>
            <a:ext cx="1006560" cy="92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33336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34136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今天首先感谢您们在百忙之中抽空来参加家长会，协助并参与我们的教育教学工作。我非常高兴。关心、帮助、督促贵子女学习是我们共同的心愿！使您的孩子得到全面发展和提高是我们共同的目标！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在此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我代表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所有的任课老师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对在座的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家长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表示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感谢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1280880"/>
            <a:ext cx="84247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前苏联教育家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新魏"/>
              </a:rPr>
              <a:t>苏霍姆林斯基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说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Arial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  <a:ea typeface="华文新魏"/>
              </a:rPr>
              <a:t>两个教育者——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学校和家庭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  <a:ea typeface="华文新魏"/>
              </a:rPr>
              <a:t>，不仅要一致行动，要向孩子提出同样的要求，而且要志同道合，抱着一致的信念，始终从同一原则出发，无论在教育的目的上、过程上，还是手段上，都不要发生分歧”</a:t>
            </a:r>
            <a:r>
              <a:rPr b="0" lang="zh-CN" sz="3600" spc="-1" strike="noStrike">
                <a:solidFill>
                  <a:srgbClr val="cc3399"/>
                </a:solidFill>
                <a:latin typeface="Arial"/>
                <a:ea typeface="华文新魏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24000" y="126828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家长谈经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08000" y="692280"/>
            <a:ext cx="523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班主任的几点建议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67960" y="190188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家长多一些时间和耐心去和孩子交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66920" y="2800440"/>
            <a:ext cx="16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要给孩子创造一个良好的学习环境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37600" y="3881520"/>
            <a:ext cx="45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孩子的学习方面多与教师交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2160" y="4948200"/>
            <a:ext cx="10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不要过分娇惯孩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00040" y="789480"/>
            <a:ext cx="5813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批评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谴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鼓励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自信；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忍耐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耐心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表扬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感激；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接受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爱；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分享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慷慨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真诚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头脑平静地生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70720" y="-87840"/>
            <a:ext cx="1003320" cy="289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  <a:ea typeface="华文彩云"/>
              </a:rPr>
              <a:t>赠家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86600" cy="10508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25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97560" y="333360"/>
            <a:ext cx="200916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隶书"/>
              </a:rPr>
              <a:t>倾听孩子们的心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280" y="40464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不是孝顺的儿子不是好儿子，不是三好学生的学生不是好学生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-----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徐登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234936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爸妈，你们对我的恩情无以为报，我能做的一直都在做，请相信你们的孩子已经长大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陈   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42210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知道我已经踏上了初三的道路，下学期就要面临中考了，虽然我以前犯了很多错误，当经过这些事后，我懂事了，我一定会在初三这一年加倍努力学习，争取考个好高中，不让你们失望。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郑德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333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妈妈：时间飞逝，我已经十五岁，  可能在你的眼中我什么事都会跟你讲，可我心中还有小秘密的，我想跟你说声谢谢，虽然十几年的养育之恩不是用谢谢能概括的，但固执的我还是想说一声谢谢，我想说声对不起，我从小是个任性的孩子，常常不能体会你的良苦用心，还跟你闹脾气，惹你生气，我渐渐长大了，知道错误了。俗话说得好，女儿是妈妈的贴心小棉袄，当你想起我，希望你心中是暖的，热的因为其中有我对你的无尽的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马思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26920" y="47628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亲爱的妈妈：我想“养育子女恐怕是世界上最难的事情，而你却做到了，而且做得完美无暇。我一定会用行动来报答你，请你一定相信我，我行，我一定行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董学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3500280"/>
            <a:ext cx="81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爸妈，平一中不行，就浙鳌吧，浙鳌不行就新鳌吧，一点努力不可以就再加一点，这样再不行就尽我最大的能力，向前进取，前相信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陈士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40464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亲爱的爸爸妈妈，我感谢你们哺育了我，我相信我会经过初三一年的努力，以最好的成绩来回报你们，一次的失败并不代表我一直失败下去。虽然我失败过，但我坚信到最后一定会成功的。请你们也相信我，你们永远的女儿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白晓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342900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时间过得真快，转眼间我已经十几岁了，你为我的付出恍惚就在昨天发生的一样。现在我已经初三了，我会尽自己的能力把功课赶上去，请你放心，初三是人生一个转折点，所以无论怎样，我都会转过这个弯，相信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苏   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24000" y="620640"/>
            <a:ext cx="86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爸妈，你们辛苦了，谢谢你们对我的关爱，我知道在你们的心中并不优秀，但我会尽力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白   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31417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爸妈，期中考过后，不管考得好不好，我一定会继续努力，不求最好，但求更好，我会努力迎接下一次考试，包括中考，希望你们相信我，我不会让你们失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董    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ShockwaveFlash1"/>
          <p:cNvGraphicFramePr/>
          <p:nvPr/>
        </p:nvGraphicFramePr>
        <p:xfrm>
          <a:off x="0" y="333360"/>
          <a:ext cx="914400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6524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95280" y="1125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亲爱的爸妈：你们辛苦了， 十几年的养育之恩，我无以回报，但我能考上一所理想的高中，我想这应该给你们最大的回报。最让你们感到欣慰的事，你们的辛苦并没有白费，现在的我不是那个只会埋怨的傻孩子，我知道你们付出的太多，所以我会尽最大的努力，来达到这个目。，我知道前面是重重的困难和险阻，但我不会退缩，请相信我，永远爱你的儿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陈咨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4360" y="692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亲爱的爸妈：我知道你不在这里，你们远在千里，但在我心里你就在我的面前。从小我一个人就孤独地面对生活，但我还记得爸爸说过的一句话：志字心上一个士，士是坚强的，我不害怕孤独和困难。现在我在二中不再孤独，我已经有了最好的朋友，但我还是希望你在我的身旁。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白炳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765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妈妈，我是你的独生子，所以你对我宠爱有加，但不是溺爱，因为你会把握对我的爱。在你的心中，我是优秀的，所以你对我要求严谨，你从小就想让我接受好的教育，所以你和爸爸努力挣钱，但我却无心学习，很不应该。但从今以后，我会努力达到你对我的要求，因为我知道，你对的严格是让我的人生道路更加通畅和顺利，我会努力学习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黄兆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000" y="76500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知道由于我自身的原因，你不同意我从事体育运动，可我坚决走下去。现在县里运动会已经结束了，我没能取得好成绩，我会在以后的时间里，努力学习，考个好高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陈  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9640" y="148428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个人的生存环境是至关重要的，好的环境将会改变一个人的一生。我希望的不是充满吸烟、喝酒的环境，而是轻柔平淡的，并且我相信这样的环境一定可以让更加拥有信心去迎接中考，取得好成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陈   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68360" y="1628640"/>
            <a:ext cx="77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爸妈，我知道我在你们的心中地位很重，所以你们也对我报以很大的希望，什么都要我做得最好。但我常常让你们失望，因为你们给我的压力太大，一次失败就让我失去信心，所以请你放开我，我会尽自己最大的努力，去做每一件事，一点一点去取得成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张高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71640" y="1125360"/>
            <a:ext cx="77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亲爱的爸妈，十分感谢你们这些年的教导，现在我已经渐渐长大了，也更加懂事了，平时你们对我的唠叨就是对我的教导，初三虽然辛苦，但我一定会克服困难，竭尽自己最大的努力，取得好成绩，考得好的学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陈    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62064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亲爱的爸爸妈妈：感谢你们对我的培养和关怀，我不会让你们失望的，我会考上好的高中，来报答你们，请相信我，爱你的孩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郑   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285264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亲爱的爸爸妈妈，我知道你们辛苦了，我以后会以更好的成绩回报你们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胡存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3959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亲爱的爸爸妈妈，不管我的未来如何，我会努力去拼搏，因为成功在于拼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杨   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0920" y="33336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亲爱的爸爸妈妈，我不在是小孩子了，我已长大了，但我知道在你们的心中，我还是个不成熟的孩子，我不想你们为我付出太多的精力。请相信我，我已不是小孩子了，我已经懂事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张友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2852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亲爱的父母，虽然我在班级里的成绩并不是非常优异，但我会努力学习，争取在每一次考试中取得好成绩，我相信我经过初三一年的努力学习，一定会考上理想的高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陈   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76360" y="549360"/>
            <a:ext cx="831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爸妈，你们常年在外工作很辛苦，几年难得回来一次。初三了，这是初中最关键的一年，也使你们不能安心在外工作而赶回来，我一定会尽自己最大的努力，考上好高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卢成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350028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爸，我知道你对我的期望和付出很大，但从来没有得到过回报，在我读初中的最后一年里，我要以成绩来报答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鲁友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196720" cy="7505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040" y="100980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会议目的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10212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让我们架起心灵沟通的桥梁，为孩子们的健康成长共商教育教学大计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9280" y="692280"/>
            <a:ext cx="889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爸爸妈妈：初三这一战我也许会打得很漂亮，也许会打得并不完美，但我一定一定会尽自己最大的努力来打好这一战，将初中三年打一个完美的句号，而不是逗号，相信我吧，我会努力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陈海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7280" y="407664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爸妈，我成绩不是很好，但我一定会尽最大的努力去拼搏，考个理想的学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陈    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549360"/>
            <a:ext cx="835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爸爸、妈妈：我知道以我现在的成绩无法考上浙鳌的，但是我一定会努力去学习，争取考上浙鳌。爸爸、妈妈，请相信我，你的好儿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梁亦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278136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亲爱的爸爸妈妈：感谢你们生育、养育了我，我感觉到你们在我学习中没有给我任何压力，让我在学习中没有任何心理负担，在你们无微不至的关怀下，踏入了初中，请你们相信我的实力，让我能尽情地去发挥，尽情地创造人生第一次成功，最后祝愿你们永远年轻，永远健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徐文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692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亲爱的爸爸，初三已经过去半个学期了，展望未来，离中考的时间越来越近了，在这段时间里，我一定会挑战自我，拿出好成绩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林    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270828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阿爸阿妈，初中三年以来，我一直有话对你们说，就是说不出口。现在借这次机会，我想说的第一句话，爸妈你们辛苦了；第二句话，你们辛苦了；这么多年来，你们不分白天黑夜挣钱供我上学，而我曾经多次不懂得珍惜，让你们失望，再次我向你们说声对不起。我会加倍努力，不在让你们失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周方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79280" y="476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妈妈，对不起，上次因为一件小事与你发生争执，出于一时冲动，我好久没理你了。现在想想真后悔，或许我让伤透了心，但希望你相信，你的儿子永远还是爱你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-------------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白炳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3280" y="299736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爸爸妈妈，十几年来一直想对你们说一句话：“感谢你们！”感谢你们为我提供良好的学习条件，感谢你们给予我舒适的生活环境，感谢你们对我的鼓励，对我的信任。十几年来的养育之恩无以回报，愿明年的中考能夺取好成绩，为你们，也为我自己争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              —————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王      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55640" y="9079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敬爱的父母：非常感谢你们对我十多年来的栽培，你们从来不会因为成绩的事而骂我，从来没有。我知道，你们是怕那样会给我压力，把学习当成负担。但是我知道，每次看到成绩单时，您的眼神已经告诉我您的感受了，是高兴还是失望，是期待还是心酸……你们的女儿虽然不是最优秀的，但是为了自己的将来，为了你们的期望，我一定会全力以赴。请相信我吧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————————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周彬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9640" y="62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亲爱的爸爸妈妈：感谢你们这么多年来的精心教导，我在初三这年会好好努力的，我会竭尽我的能力，去争取自己想要的学校的。请你们相信我吧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—————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白炳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4000" y="333360"/>
            <a:ext cx="81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爸爸妈妈，转眼间，十几年过去了，感谢你们十几年以来对我的关心和照顾，是你们给了我一个舒适的环境。现在我已经是初三了，不在是以前那个什么都要依靠父母的小孩子了，生活上的事情我可以自理，所以请你们不要过于操心。在学习上，我会尽自己所能学好每门功课，所以请你们一定要相信我。初三是个人生的转折点，决定着自己的将来，所以我要更认真地学习。我小时候不懂事，你们有事让我不顺心，我就埋怨你们，在这里，我向你们说声“对不起”。有一句话我一直想和你们说，就是：“爸爸，妈妈，你们辛苦了，为了我你们操劳了十几年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—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-——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苏   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31640" y="333360"/>
            <a:ext cx="853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亲爱的爸爸妈妈，谢谢你们在九年来对我的教育，让我在优秀的学校里学习，虽然我的成绩不是很理想，因为在每次将成绩单交给你们的时候，我会发现你们眼中有一种忧伤和难过。成绩差我也不想啊！我试过刻苦地学习，在刻苦学习的时候，我的成绩也跟着进步了，但是没过几天我的成绩又掉下来了，难道这是我在平时太骄傲了吗？不是的，因为我实在太懒了。我希望在这几个月的时间来改掉自身的缺点去适应中考，在中考中考一个好成绩来报答一直支持我，鼓励我的母。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————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徐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0920" y="476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自从我上初一以来，父母不在身边，是叔叔和婶婶一直在照顾着我，为我费心费神，犹如父母，我想说一句“谢谢你们。”同时，我父母在外面辛苦的赚钱，供我读书，虽然他们不在我身边，但我知道他们也是身不由己，我知道他们是爱我的，我想对他们说：你们辛苦了。为了你们付出的汗水，我一定会踏上成功的旅途，航风而行，做一个有道德、智慧的人。我知道我不是一个真正的好孩子，但经历了这么多的风雨之后，我会懂事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——————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曹隆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6000" y="62064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亲爱的爸爸妈妈：这是您们的女儿第一次握起笔给你们写信，在这信里，女儿第一次说出自己的心声：爸、妈，感谢你们给予我生命，给我关怀，给予我在这么好的学校受教育。你们现在的希望的、所作所为的就是我的将来。在这初中的最后一年里，我一定会拼搏、拼搏、再拼搏，努力、努力、再努力，打响最后一炮，向平一中冲去。圆了你们的心愿，为自己的未来打好基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——————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徐斌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85360" y="5493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任教老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77336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语文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梁祥传</a:t>
            </a:r>
            <a:r>
              <a:rPr b="1" lang="zh-CN" sz="4000" spc="-1" strike="noStrike">
                <a:solidFill>
                  <a:srgbClr val="990000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3958961985 (61198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492280"/>
            <a:ext cx="84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英语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春杏</a:t>
            </a:r>
            <a:r>
              <a:rPr b="1" lang="zh-CN" sz="4000" spc="-1" strike="noStrike">
                <a:solidFill>
                  <a:srgbClr val="990000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3506631118 (61111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384720"/>
            <a:ext cx="882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科学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鲁    军</a:t>
            </a:r>
            <a:r>
              <a:rPr b="1" lang="zh-CN" sz="4000" spc="-1" strike="noStrike">
                <a:solidFill>
                  <a:srgbClr val="990000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3958958854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00536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社会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刘泉江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38683327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481500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学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班主任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: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邓安平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35875333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24000" y="44784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爸爸妈妈，时间过得真快，十几年过去了，一直藏在我心里的话终于可以说出来了，也许你们觉得我不懂事，脾气不好，不怎么爱听你们的话，但我知道你们这样做都是为了我好，只是我平时不愿说出来罢了。有时，我也想做做些事来表达一下，可我却不敢做。我知道，哥哥的任性让你们很难过，甚至有时气得也没心思吃饭，这让你们老了很多。“爸，你挣钱很辛苦，别太劳累了。妈妈，你天天要干家务，每次我回家你也要回来，真得很辛苦，你们一定要注意身体哦！”初三到了，我想你们比我更紧张，我知道你们把所有的希望都放在我身上，希望我能考上一个好高中，我一定会努力的，考上一个我理想的高中。在平时老师对我的谈话中，我也明白了你们的不容易，我的不足，我一定会改的，不会让你们生气。我想经过我的努力，我一定不会让你们失望的。最后说一句都没和你们说过的话：“爸爸妈妈，我爱你们，你们辛苦了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——————————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白千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1280" y="83664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妈，在您的心中，我可能是个什么都比不上别人，但是您也别光看我的缺点。初三的生活已经开始了，我想这个学期你比我还要担心！担心我的成绩，担心我以后的路，担心我………说了这么多，我只想说的是，妈妈，我会努力的，一定不会让您失望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——————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吴海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1125360"/>
            <a:ext cx="831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妈，在您的心中，我可能是个什么都比不上别人，但是您也别光看我的缺点。初三的生活已经开始了，我想这个学期你比我还要担心！担心我的成绩，担心我以后的路，担心我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说了这么多，我只想说的是，妈妈，我会努力的，一定不会让您失望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——————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吴海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27000"/>
            <a:ext cx="9144000" cy="6860520"/>
            <a:chOff x="0" y="27000"/>
            <a:chExt cx="9144000" cy="686052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0" y="270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989440" y="5970600"/>
              <a:ext cx="4295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ffff"/>
                  </a:solidFill>
                  <a:latin typeface="Times New Roman"/>
                </a:rPr>
                <a:t>感谢各位家长的光临！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隶书"/>
              </a:rPr>
              <a:t>班级管理理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1856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做一个有丰富情感的人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做一个有心里健全的人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做一个有良好习惯的人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.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556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班级学生组成情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198900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本班共有学生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44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男生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32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人，女生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35280" y="44280"/>
            <a:ext cx="66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本班期中考试成绩分析报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692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特等优秀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2205000"/>
            <a:ext cx="395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26828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白炳波 吴雁斌  陈  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773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等优秀生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349360"/>
            <a:ext cx="756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黄  杰 曹隆威 卢成浣 白晓杰 王  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彬彬 陈咨沙 林  恒 王晓婷 徐文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93680" y="3716280"/>
            <a:ext cx="17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等优秀生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4437000"/>
            <a:ext cx="820908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郑德宋 陈  骏 董学权 马思思 徐登超 陈  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黄兆宇 陈士洲 梁亦涨 周方潮徐斌斌 白炳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陈  恒 陈海琳 白千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1714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916360" y="692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进步之星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41800" y="407664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炳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3920" y="4937040"/>
            <a:ext cx="10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黄  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97440" y="177336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曹隆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57440" y="175752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卢成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5320" y="5681520"/>
            <a:ext cx="14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周彬彬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2960" y="287352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陈咨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62280" y="402048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郑  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郑德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18320" y="4062240"/>
            <a:ext cx="16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陈  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50086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董学权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79640" y="4997520"/>
            <a:ext cx="14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陈  萱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084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陈士洲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6360" y="175752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梁亦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4005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陈  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05800" y="179388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千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77920" y="290916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陈  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30040" y="177264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周  程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0800" y="2909160"/>
            <a:ext cx="11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友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32400" y="177264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吴海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48120" y="292356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杨  旋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2:32:3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42:07Z</dcterms:modified>
  <cp:revision>152</cp:revision>
  <dc:subject>主题班会课件(分28大类): http://shop62905894.taobao.com</dc:subject>
  <dc:title>主题班会课件(分28大类): http://shop62905894.taobao.com</dc:title>
</cp:coreProperties>
</file>